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813-246C-4547-8900-46A45D67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B3A-C7FF-489B-B393-4431F6B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1D3-8F0B-4C67-9535-0B743C58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D1A-0A27-4381-9A17-719332E1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17A-A612-4845-9802-8293B74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F72-19BB-4711-A7A5-4915F9FD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349-8318-4B49-AC4C-964BEDFA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AE0-0A12-4E31-B79F-DAD7AB1B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9A4-A0F8-4624-BEF7-99E8C3B4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A78-62C3-4BDC-9789-6484894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031-1245-4C84-99A6-0998FA1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641-361C-4FB2-8EC8-F9662E1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8FC0-5453-4873-8F9C-2B8562610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89000"/>
            <a:ext cx="2592720" cy="136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836640"/>
            <a:ext cx="10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404640"/>
            <a:ext cx="1296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no a vive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altro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084720" y="475920"/>
            <a:ext cx="5083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260280"/>
            <a:ext cx="79056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836640"/>
            <a:ext cx="621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981000"/>
            <a:ext cx="874440" cy="136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guerre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1484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421000"/>
            <a:ext cx="1943280" cy="143964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le persone 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paese se ne van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’estero a vivere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4437000"/>
            <a:ext cx="1944720" cy="115272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italiani sono s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granti in molti 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,anche se meno d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olta,lo s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e og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49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4797360"/>
            <a:ext cx="1297080" cy="36036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34920" y="522936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22936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522936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5877000"/>
            <a:ext cx="1008000" cy="57636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5877000"/>
            <a:ext cx="720720" cy="21600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734080"/>
            <a:ext cx="865080" cy="358920"/>
          </a:xfrm>
          <a:prstGeom prst="rect">
            <a:avLst/>
          </a:prstGeom>
          <a:solidFill>
            <a:srgbClr val="d073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41300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060640"/>
            <a:ext cx="1800360" cy="136836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 stranieri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cer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328464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3933720"/>
            <a:ext cx="1224000" cy="122400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092720" y="515772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15772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5661000"/>
            <a:ext cx="936720" cy="57636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298600">
            <a:off x="7710480" y="5694120"/>
            <a:ext cx="1260360" cy="504720"/>
          </a:xfrm>
          <a:prstGeom prst="rect">
            <a:avLst/>
          </a:prstGeom>
          <a:solidFill>
            <a:srgbClr val="a539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6:51Z</dcterms:created>
  <dc:creator>studente</dc:creator>
  <dc:description/>
  <dc:language>en-US</dc:language>
  <cp:lastModifiedBy>studente</cp:lastModifiedBy>
  <dcterms:modified xsi:type="dcterms:W3CDTF">2017-01-09T08:40:46Z</dcterms:modified>
  <cp:revision>3</cp:revision>
  <dc:subject/>
  <dc:title>Diapositiva 1</dc:title>
</cp:coreProperties>
</file>